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6858000" cy="99028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241720" y="685440"/>
            <a:ext cx="23745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F48D-8B34-4905-BB04-CBB92C6D2A21}" type="slidenum"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241720" y="685800"/>
            <a:ext cx="237456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Rakennemäärittel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Document Type Definition. SGML-dokumentin rakennemäärittely. SGML:n mukaisten dokumenttien dokumenttiluokan loogisen  rakenteen määritys. Se kuvaa dokumenttityypin rakenneosat (elementit) ja niiden hierarkiset suhtee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2241720" y="685800"/>
            <a:ext cx="237456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Merkattu sisältö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GML-dokumentin kolmas osa, jossa on dokumentin sisältö                 (content)  merkkauksen (tunnisteiden) ympäröimänä. Myös dokumentti, SGML-koodattu teksti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2241720" y="685800"/>
            <a:ext cx="237456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Elementt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Element. SGML-dokumentin rakenneosa, joka voi sisältä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lielementtejä ja eri tyyppistä tietoa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Tunnis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Tag. Merkkaus, jolla erotetaan SGML-dokumentin rakenneos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toisistaa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Entiteett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Entity. Informaatiokokonaisuus, johon viitataan yhtenä yksikkönä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esimerkiksi merkki tai SGML-dokumenttientiteetti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ttribuutt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ttribute. Attribuutti kuvaa elementin ominaisuuksia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241720" y="685800"/>
            <a:ext cx="237456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kattu ELEMENTTI ”TITTLE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2241720" y="685800"/>
            <a:ext cx="237456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Huomaa, että lähes kaikkiin SGML -ohjelmistoihin on sisällytetty SGML jäsennin (parser), joka varmistaa dokumentin oikeellisuuden ja voi lisäksi antaa mahdollisuuden ohjelmointirajapintaan (API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2241720" y="685800"/>
            <a:ext cx="237456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Editor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GML editorit (Grif, Adept Editor, InContext, FrameMaker+SGML, .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GML laajennuksin varustetut editorit (N&amp;F Author, MS Author fo Wor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muut rakenne-editorit (FrameMaker, Interlea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muut editorit (Notepad, Emacs, V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DTD suunnittelu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N&amp;F Desig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Huomioi kuvien piirto ja konvertointi sopivaan tallennusformaatti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TI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CG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241720" y="685800"/>
            <a:ext cx="237456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DTD suunnittel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N&amp;F Desig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Jäsentim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ei näy käyttäjälle (usein sisäänrakennett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Editor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nContext, Adept, Grif, Frame+SG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Konversio-ohjel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Omnimark, Balise, DynaTag, perl, J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Tiedonhalli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sto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Taitto-ohjel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DynaPage, Frame, Pagemaker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laim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MultidocPro, PanoramaP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2241720" y="685800"/>
            <a:ext cx="237456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Esittelyos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GML-dokumentin ensimmäinen osa, joka kuvaa käytetyn todellisen syntaksin ja sisältää yleisiä ohjeita jäsentimelle. Tämä tarvitaan lähinnä silloin, kun dokumenttia siirretään eri järjestelmien välillä. Myös SGML-esittelyosa, SGML-esittely,  SGML-määrittely. 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Rakennemäärittel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Document Type Definition. SGML-dokumentin rakennemäärittely. SGML:n mukaisten dokumenttien dokumenttiluokan loogisen  rakenteen määritys. Se kuvaa dokumenttityypin rakenneosat (elementit) ja niiden hierarkiset suhtee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Merkattu sisältö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GML-dokumentin kolmas osa, jossa on dokumentin sisältö                 (content)  merkkauksen (tunnisteiden) ympäröimänä. Myös dokumentti, SGML-koodattu teksti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2241720" y="685800"/>
            <a:ext cx="237456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ittelyos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GML-dokumentin ensimmäinen osa, joka kuvaa käytetyn todellisen syntaksin ja sisältää yleisiä ohjeita jäsentimelle. Tämä tarvitaan lähinnä silloin, kun dokumenttia siirretään eri järjestelmien välillä. Myös SGML-esittelyosa, SGML-esittely,  SGML-määrittely. 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F46B-896C-43D7-8B6C-B38171DF3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4480"/>
            <a:ext cx="58291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B86E-1206-48F9-993B-DF8362E4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4480"/>
            <a:ext cx="284436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4480"/>
            <a:ext cx="284436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A827-654A-4E18-8EAA-995A67850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187668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0560"/>
            <a:ext cx="187668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0560"/>
            <a:ext cx="187668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4480"/>
            <a:ext cx="187668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4480"/>
            <a:ext cx="187668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4480"/>
            <a:ext cx="187668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6718-CD52-4D77-9393-2A467D802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0560"/>
            <a:ext cx="5829120" cy="59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4F39-7623-4F81-99C0-CB3263A7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FC5A-1663-4A57-AFFB-89B56922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8A1A-74F1-424F-A83B-48C362AB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58A7-285E-475D-BADA-0385D2FB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7948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720E-8A44-4EBA-98BC-6975D41A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4480"/>
            <a:ext cx="284436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3595-8206-4F81-A8F1-69097C87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4480"/>
            <a:ext cx="284436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37E8-E8F3-4998-8884-146302B0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284436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0560"/>
            <a:ext cx="284436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4480"/>
            <a:ext cx="58291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92B9-59FB-4928-9E3A-0DF9E913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0560"/>
            <a:ext cx="582912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3400"/>
            <a:ext cx="142884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3400"/>
            <a:ext cx="217152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3400"/>
            <a:ext cx="14284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F1DD-0A73-412E-8019-DD407D9BB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73240" y="2666880"/>
            <a:ext cx="29718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kumen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0760" y="4572000"/>
            <a:ext cx="16761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ke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59040" y="4572000"/>
            <a:ext cx="16765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ält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16440" y="4572000"/>
            <a:ext cx="16765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y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603760"/>
            <a:ext cx="21495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vaus dokument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kenteesta, kutusta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yös SGML -sovellukseks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8" idx="2"/>
            <a:endCxn id="49" idx="0"/>
          </p:cNvCxnSpPr>
          <p:nvPr/>
        </p:nvCxnSpPr>
        <p:spPr>
          <a:xfrm flipH="1">
            <a:off x="1158840" y="3429000"/>
            <a:ext cx="2400480" cy="114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" name=""/>
          <p:cNvCxnSpPr>
            <a:stCxn id="48" idx="2"/>
            <a:endCxn id="50" idx="0"/>
          </p:cNvCxnSpPr>
          <p:nvPr/>
        </p:nvCxnSpPr>
        <p:spPr>
          <a:xfrm>
            <a:off x="3558960" y="3429000"/>
            <a:ext cx="38520" cy="114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" name=""/>
          <p:cNvCxnSpPr>
            <a:stCxn id="48" idx="2"/>
            <a:endCxn id="51" idx="0"/>
          </p:cNvCxnSpPr>
          <p:nvPr/>
        </p:nvCxnSpPr>
        <p:spPr>
          <a:xfrm>
            <a:off x="3558960" y="3429000"/>
            <a:ext cx="2095920" cy="114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" name=""/>
          <p:cNvSpPr/>
          <p:nvPr/>
        </p:nvSpPr>
        <p:spPr>
          <a:xfrm>
            <a:off x="2911320" y="5638680"/>
            <a:ext cx="1905120" cy="19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ältö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oka vaihtel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kumentista toiseen. V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ll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ksti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v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16440" y="5562720"/>
            <a:ext cx="1981080" cy="26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yli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onka mukaises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kumentti näytetää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amalla dokumentil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oi olla useita tyylej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rkoituksia vart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5000" y="762120"/>
            <a:ext cx="530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GML dokumentin raken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imes New Roman"/>
              </a:rPr>
              <a:t>Rekennemääritte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22240" y="2784600"/>
            <a:ext cx="5411880" cy="558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ourier New"/>
              </a:rPr>
              <a:t>&lt;!DOCTYPE  MAIL [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ourier New"/>
              </a:rPr>
              <a:t>&lt;!--Golf Club's Mail DTD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ourier New"/>
              </a:rPr>
              <a:t>&lt;!ELEMENT mail - - (head,body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ourier New"/>
              </a:rPr>
              <a:t>&lt;!ELEMENT head - O ((to &amp; fr) &amp; sb?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ourier New"/>
              </a:rPr>
              <a:t>&lt;!ELEMENT body - O (p*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ourier New"/>
              </a:rPr>
              <a:t>&lt;!ELEMENT to - O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ourier New"/>
              </a:rPr>
              <a:t>&lt;!ELEMENT fr - O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ourier New"/>
              </a:rPr>
              <a:t>&lt;!ELEMENT sb - O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ourier New"/>
              </a:rPr>
              <a:t>&lt;!ELEMENT p - O ((#PCDATA|cite)*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ourier New"/>
              </a:rPr>
              <a:t>&lt;!ELEMENT cite - -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ourier New"/>
              </a:rPr>
              <a:t>]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kattu sisält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398160" y="2971800"/>
            <a:ext cx="7648200" cy="527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ourier New"/>
              </a:rPr>
              <a:t>&lt;!DOCTYPE mail SYSTEM "c:\sgml\dtd\mail.dtd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ourier New"/>
              </a:rPr>
              <a:t>&lt;mai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ourier New"/>
              </a:rPr>
              <a:t>&lt;to&gt;Club Secr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ourier New"/>
              </a:rPr>
              <a:t>&lt;fr&gt;Olde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ourier New"/>
              </a:rPr>
              <a:t>&lt;sb&gt;What About SGM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ourier New"/>
              </a:rPr>
              <a:t>&lt;p&gt;Dear Secr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ourier New"/>
              </a:rPr>
              <a:t>&lt;p&gt;P. G. Wodehouse dedicated The Heart of a Go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ourier New"/>
              </a:rPr>
              <a:t>&lt;cite&gt;To my daughter Leonora without who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ourier New"/>
              </a:rPr>
              <a:t>never-failing sympathy and encouragement th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ourier New"/>
              </a:rPr>
              <a:t>book would have been finished in half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ourier New"/>
              </a:rPr>
              <a:t>time.&lt;/cite&gt; Do you think SGML would ha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ourier New"/>
              </a:rPr>
              <a:t>done some goo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ourier New"/>
              </a:rPr>
              <a:t>&lt;p&gt;Best reg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ourier New"/>
              </a:rPr>
              <a:t>&lt;p&gt;Olde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ourier New"/>
              </a:rPr>
              <a:t>&lt;/mai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GML rakennusosa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Element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unnist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Entiteet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Attribuut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nnisteen os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124080"/>
            <a:ext cx="6324480" cy="31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TITLE&gt;Otsikko tunnisteiden välissä&lt;/TITTL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uv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kutunnisteen alkumerk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T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nnisteen ni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kutunnisteen loppumerk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pputunnisteen alkumerk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TT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nnisteen ni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pputunnisteen loppumerkk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ribuut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 tarkoitusta varten olevia tarkentavia (ei näytettäviä) tietoja elementist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ällytetään elementin avausmerkkauks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imerkki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ARA taso=”perus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19000" y="63658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in tunni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10440" y="7356600"/>
            <a:ext cx="138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u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26840" y="7280280"/>
            <a:ext cx="15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u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514600" y="60199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971800" y="6019920"/>
            <a:ext cx="9907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029200" y="60199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imes New Roman"/>
              </a:rPr>
              <a:t>Entiteet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Erikoismerkkejä varten,  &lt; tai 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ulkoisen tiedoston sisältämän tiedon sisällyttämisek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esim. grafiikka, SGML instans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lyhenteiden käyttöä var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kuten SG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arametrien käyttöä var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muuttuja DTD:ss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uraken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57200" y="2895480"/>
            <a:ext cx="2073240" cy="1298160"/>
            <a:chOff x="457200" y="2895480"/>
            <a:chExt cx="2073240" cy="1298160"/>
          </a:xfrm>
        </p:grpSpPr>
        <p:sp>
          <p:nvSpPr>
            <p:cNvPr id="102" name=""/>
            <p:cNvSpPr/>
            <p:nvPr/>
          </p:nvSpPr>
          <p:spPr>
            <a:xfrm>
              <a:off x="1219320" y="2895480"/>
              <a:ext cx="5490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200" y="3733920"/>
              <a:ext cx="5493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19320" y="3733920"/>
              <a:ext cx="5490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981080" y="3733920"/>
              <a:ext cx="5493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23880" y="33526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762120" y="3505320"/>
              <a:ext cx="7617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23880" y="350532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657600" y="3048120"/>
            <a:ext cx="2073240" cy="1297800"/>
            <a:chOff x="3657600" y="3048120"/>
            <a:chExt cx="2073240" cy="1297800"/>
          </a:xfrm>
        </p:grpSpPr>
        <p:sp>
          <p:nvSpPr>
            <p:cNvPr id="110" name=""/>
            <p:cNvSpPr/>
            <p:nvPr/>
          </p:nvSpPr>
          <p:spPr>
            <a:xfrm>
              <a:off x="4419720" y="3048120"/>
              <a:ext cx="5490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57600" y="3886200"/>
              <a:ext cx="5493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419720" y="3886200"/>
              <a:ext cx="5490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181480" y="3886200"/>
              <a:ext cx="5493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3505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886200" y="36576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86200" y="3657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86400" y="3657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367560" y="4537080"/>
            <a:ext cx="24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KO-TAI ryhm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64360" y="4460760"/>
            <a:ext cx="23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äkkäisrake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209680" y="5943600"/>
            <a:ext cx="2073240" cy="1297800"/>
            <a:chOff x="2209680" y="5943600"/>
            <a:chExt cx="2073240" cy="1297800"/>
          </a:xfrm>
        </p:grpSpPr>
        <p:sp>
          <p:nvSpPr>
            <p:cNvPr id="121" name=""/>
            <p:cNvSpPr/>
            <p:nvPr/>
          </p:nvSpPr>
          <p:spPr>
            <a:xfrm>
              <a:off x="2971800" y="5943600"/>
              <a:ext cx="5490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09680" y="6781680"/>
              <a:ext cx="5493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71800" y="6781680"/>
              <a:ext cx="5490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33560" y="6781680"/>
              <a:ext cx="5493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276360" y="6400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38280" y="65530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438280" y="6553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038480" y="6553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3262320" y="6289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77840" y="7543800"/>
            <a:ext cx="293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nnainen toiste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äkkäisrake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2209680" y="1143000"/>
            <a:ext cx="2073240" cy="1297800"/>
            <a:chOff x="2209680" y="1143000"/>
            <a:chExt cx="2073240" cy="1297800"/>
          </a:xfrm>
        </p:grpSpPr>
        <p:grpSp>
          <p:nvGrpSpPr>
            <p:cNvPr id="132" name=""/>
            <p:cNvGrpSpPr/>
            <p:nvPr/>
          </p:nvGrpSpPr>
          <p:grpSpPr>
            <a:xfrm>
              <a:off x="2209680" y="1143000"/>
              <a:ext cx="2073240" cy="1297800"/>
              <a:chOff x="2209680" y="1143000"/>
              <a:chExt cx="2073240" cy="1297800"/>
            </a:xfrm>
          </p:grpSpPr>
          <p:sp>
            <p:nvSpPr>
              <p:cNvPr id="133" name=""/>
              <p:cNvSpPr/>
              <p:nvPr/>
            </p:nvSpPr>
            <p:spPr>
              <a:xfrm>
                <a:off x="2971800" y="1143000"/>
                <a:ext cx="54900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209680" y="1981080"/>
                <a:ext cx="54936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971800" y="1981080"/>
                <a:ext cx="54900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733560" y="1981080"/>
                <a:ext cx="54936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276360" y="16002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438280" y="1752480"/>
                <a:ext cx="160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438280" y="17524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038480" y="17524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3354120" y="14479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1443960" y="2743200"/>
            <a:ext cx="37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isteinen peräkkäisraken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209680" y="3581280"/>
            <a:ext cx="2073240" cy="1297800"/>
            <a:chOff x="2209680" y="3581280"/>
            <a:chExt cx="2073240" cy="1297800"/>
          </a:xfrm>
        </p:grpSpPr>
        <p:grpSp>
          <p:nvGrpSpPr>
            <p:cNvPr id="144" name=""/>
            <p:cNvGrpSpPr/>
            <p:nvPr/>
          </p:nvGrpSpPr>
          <p:grpSpPr>
            <a:xfrm>
              <a:off x="2209680" y="3581280"/>
              <a:ext cx="2073240" cy="1297800"/>
              <a:chOff x="2209680" y="3581280"/>
              <a:chExt cx="2073240" cy="1297800"/>
            </a:xfrm>
          </p:grpSpPr>
          <p:sp>
            <p:nvSpPr>
              <p:cNvPr id="145" name=""/>
              <p:cNvSpPr/>
              <p:nvPr/>
            </p:nvSpPr>
            <p:spPr>
              <a:xfrm>
                <a:off x="2971800" y="3581280"/>
                <a:ext cx="54900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209680" y="4419360"/>
                <a:ext cx="54936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971800" y="4419360"/>
                <a:ext cx="54900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733560" y="4419360"/>
                <a:ext cx="54936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276360" y="40384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438280" y="4190760"/>
                <a:ext cx="160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438280" y="41907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038480" y="41907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354120" y="38862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1368000" y="5181480"/>
            <a:ext cx="38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nnainen peräkkäisrake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209680" y="6172200"/>
            <a:ext cx="2073240" cy="1297800"/>
            <a:chOff x="2209680" y="6172200"/>
            <a:chExt cx="2073240" cy="1297800"/>
          </a:xfrm>
        </p:grpSpPr>
        <p:sp>
          <p:nvSpPr>
            <p:cNvPr id="156" name=""/>
            <p:cNvSpPr/>
            <p:nvPr/>
          </p:nvSpPr>
          <p:spPr>
            <a:xfrm>
              <a:off x="2971800" y="6172200"/>
              <a:ext cx="5490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09680" y="7010280"/>
              <a:ext cx="5493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971800" y="7010280"/>
              <a:ext cx="5490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733560" y="7010280"/>
              <a:ext cx="5493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76360" y="6629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438280" y="67816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38280" y="678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038480" y="678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211120" y="66294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96920" y="66294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59400" y="6629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62600" y="7772400"/>
            <a:ext cx="42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nnaisia, toisteisia elementtej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sältömall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Kuvataan DTD:ss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esim. Luku voi sisältää otsikon ja sitä seuraavia kappaleita (yksi tai enemmä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41440" y="5638680"/>
            <a:ext cx="1024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66400" y="5638680"/>
            <a:ext cx="1515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SIKK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28360" y="5638680"/>
            <a:ext cx="1549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PP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0020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58672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19920" y="5867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6248520" y="518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5257800" y="51814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57800" y="518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6629400"/>
            <a:ext cx="58291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TD:n kaikkien elementtien muodollinen kuva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uk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isältö:       (otsikko, kappale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14440" y="879120"/>
            <a:ext cx="5829120" cy="14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in kuva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8360" y="2438280"/>
            <a:ext cx="575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!ELEMENT luk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- (otsikko,kappale+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!ELEMENT otsikko - -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!ELEMENT kappale - -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90720" y="4038480"/>
            <a:ext cx="4419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iintymistunnuk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3000" y="7010280"/>
            <a:ext cx="4419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ärjestystunnuk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7880" y="5181480"/>
            <a:ext cx="50605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lla tai yksi kerta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lla tai useita kertoj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ksi tai useita kertoj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90840" y="7924680"/>
            <a:ext cx="54828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ärjestyksess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,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ihtoehtoiset element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|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man järjestyst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&amp;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GML -ympärist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5040" y="2403360"/>
            <a:ext cx="19209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imin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nvers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ött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2438280"/>
            <a:ext cx="213372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on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itoi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utok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hjel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191120"/>
            <a:ext cx="5105520" cy="3504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71600" y="4800600"/>
            <a:ext cx="3368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edonhallin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GML dokument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D: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uv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sion halli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önkul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14800" y="7924680"/>
            <a:ext cx="213372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lost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p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kk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-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3581280"/>
            <a:ext cx="53316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495680" y="4038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1800" y="7696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in sisält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Elementtej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eksti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Elementtejä ja teksti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ns. ”Mixed content mode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käytä valinnaista toistoa (a|#PCDATA)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yhj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esim. automaattinen TOC:n paik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oikkeuk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inclusiot ja exclusi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14440" y="3276720"/>
            <a:ext cx="5829120" cy="55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Elementin kirje attribuutti tyyppi saa arvon sala, ellei toisin määrät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Attribuutti voidaan myös ilmoittaa pakollisek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Muita mahdollisia sisältöj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CDATA (merkkijon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NUMBER (numer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ID/IDREF (tunn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NAME (tekstiä ja numeroi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ribuutin määritte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8200" y="2098800"/>
            <a:ext cx="619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&lt;!ATTLIST el.name  attr.name      value     def.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&lt;!ATTLIST kirje       tyyppi       (sala|julki) sal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5867280"/>
            <a:ext cx="620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Times New Roman"/>
              </a:rPr>
              <a:t>&lt;!ATTLIST kirje       tyyppi       (sala|julki) #REQUIRE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Times New Roman"/>
              </a:rPr>
              <a:t>Entiteeteist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14440" y="2860200"/>
            <a:ext cx="5829120" cy="33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Looginen osa merkattua teksti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Fyysisesti talletettu muua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Käyttö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lyhennökset:  &amp;SGML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erikoismerkit: &amp;eacu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ulkoiset entiteet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30280" y="6518160"/>
            <a:ext cx="221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kirj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luku1;&amp;luku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kirj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imin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Konvers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konversiot / käännök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työk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Omnimark, Bal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Perl, J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Syött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suoraan näppäimistölt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edito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ohjelmallise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konversiotyökal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uon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itoi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uodaan rakenteen mukaisia dokumentte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utok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okataan olemassa olevia dokumentte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hjel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ökal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itor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TD suunnitteluvälin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versiotyökal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edonhallin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etokann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GML tietokannat (Astor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kstitietokann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atiotietokann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edostojärjestelm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sionhalli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önkul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los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aperi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taitto-ohjelmat (FrameMak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DSSSL ohjelmat (JA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konversiot (PDF, RTF, Postscrip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Verkko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SGML selaimet (Multidoc Pr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konversiot (HTML, PDF, DynaWe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D-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Times New Roman"/>
              </a:rPr>
              <a:t>Elektroniset kirjat (Dynatex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GML väline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TD suunnitte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äsenn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itor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nversio-ohjel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edonhalli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itto-ohjel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aim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GML dokumentin os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14440" y="2860560"/>
            <a:ext cx="582912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ittelyo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kennemäärittely (DT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kattu sisält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14440" y="87948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ittelyo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9960" y="2251080"/>
            <a:ext cx="5654520" cy="648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&lt;!SGML   "ISO 8879-1986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CHAR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BASESET  "ISO 646-1983//CHARSET International Re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Version (IRV)//ESC 2/5 4/0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DESCSET  0      256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CAPACITY PUBLIC "ISO 8879-1986//CAPACITY Reference//EN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COPE    DOC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YNT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UNCHAR CONTROLS 0 1 2 3 4 5 6 7 8 9 10 11 12 13 14 15 16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18 19 20 21 22 23 24 25 26 27 28 29 30 31 127 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BASESET  "ISO 646-1983//CHARSET International Re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Version (IRV)//ESC 2/5 4/0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DESCSET  0      256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FUNCTION RE    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RS    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CE 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AB    SEPCHAR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NAMING   LCNMSTRT "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UCNMSTRT "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LCNMCHAR "-./_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UCNMCHAR "-./_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NAMECASE GENERAL 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ENTITY 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DELIM    GENERAL  SGMLR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ORTREF 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NAMES    SGMLR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QUANTITY SGMLR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FE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MINIMIZE DATATAG NO   OMITTAG  YES  RANK     NO   SHORTTAG 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LINK     SIMPLE  NO   IMPLICIT NO   EXPLICIT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OTHER    CONCUR  NO   SUBDOC   NO   FORMAL   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APPINFO NON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4T09:03:07Z</dcterms:created>
  <dc:creator>Jukka Immonen</dc:creator>
  <dc:description/>
  <dc:language>en-US</dc:language>
  <cp:lastModifiedBy>Jukka Immonen</cp:lastModifiedBy>
  <cp:lastPrinted>1997-11-04T09:22:30Z</cp:lastPrinted>
  <dcterms:modified xsi:type="dcterms:W3CDTF">1997-11-04T15:08:47Z</dcterms:modified>
  <cp:revision>23</cp:revision>
  <dc:subject/>
  <dc:title>Ei dian otsikkoa</dc:title>
</cp:coreProperties>
</file>